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6.png" ContentType="image/png"/>
  <Override PartName="/ppt/media/image1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jpeg" ContentType="image/jpeg"/>
  <Override PartName="/ppt/media/image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EA47E-2E22-4E19-94C5-F172EE0A08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B0D-0F76-4820-890D-C4B4125C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3E1-82CB-4592-8B5C-017F4333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387-8187-442E-82F6-5807B51B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E48-923E-4DCF-AC24-B6A879A5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3E73-AD2B-4BC9-B234-8411CC07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7458-B857-49A2-87C4-D001EB73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7B84-47F0-4A6E-89AC-8DA9C85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DE56-C8EA-48DE-9831-1D5969DF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76AE-0ABD-4217-ACCB-28C841E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45C4-5F6A-412A-AB46-A7AA20FC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81ED-B885-43AD-A0E9-C943DA6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0BA-B422-42D5-BDA1-528C7D66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A5A5-67E2-4B83-95AA-1600FFB5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EF42-470E-42B5-B906-ABD90EBB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3D91-0896-4A1D-924A-8B7F3361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3C1D-F503-4304-8F0A-35A1C39E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8D20-C81B-4DFE-A1B2-D29B4F0F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E719-8EA9-4B33-9D0C-E1B99E89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6FC7-3D2E-4A31-86F3-123BA0C5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347C-6051-4FBC-B1D3-81D91782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B348-2A98-471B-A9DA-341795E3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25B6-7F8E-44D1-A3B5-1DEE032F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31B-0E80-4A46-B94E-886380AF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A826-9EC9-47A5-AB75-00569F4A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9A47C-6B2B-40FD-81E3-B03963C1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C561B-9958-41D1-A237-AD6DD2EC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25A3-788E-4BC5-B673-B99A378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F09A-4687-4277-A598-96FCDB1F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1E287-504A-4BA4-8457-37E4FBDA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4346-C527-4BA6-BD5D-11E06835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1DEB-73EA-4EF5-9A84-E5C05FDC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E79C4-0A8A-4320-8834-4F90695D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C33CE-43DA-4F6A-817E-04033C56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355-362E-4C7C-B15D-47851FEE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A530D-7B40-4318-AD4A-44DD84B8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4BEC-F452-4EF6-8D03-036714D7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B9EBC-E315-4481-81F9-CF710AB0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8A43B-3E7A-4B07-832C-8D51D8D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B8288-E3C6-4D4A-B3A5-C30E8001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4F37-C6FD-432D-8E82-47CB19D3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1D210-F312-4A8D-814E-2626EF72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F3B7-B2AB-4EEE-9F3D-DE7DCC04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3CB0-C13A-453F-82A3-A5DE5489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AC9-E585-4C0D-A68A-ADB4E972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28E-A1B0-4FD0-9FC6-A0794DDD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AB2-710E-405F-B026-0C59D5FE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C4D-E5CD-4ACF-A815-822814DF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43F-BECC-48AE-B445-06839A10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B77E3-DABB-4022-A09D-8D86EF0B42B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462D2-5A8D-475C-B898-FEDC198ABA0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D6962-96AF-431D-AF9E-4C1F0329BE7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9D119-5DDC-421D-9178-5849DD23F90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634920" y="4581000"/>
            <a:ext cx="390708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дготовила студентка 1 курса КЭ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йсинова Альби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"</a:t>
            </a:r>
            <a:r>
              <a:rPr b="1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"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Новая роль преподавател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и средств обучения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цессе обуч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Участники процесса ДО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казчики систе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подаватели координато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ьютор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учаемы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олилиния 5" descr=""/>
          <p:cNvPicPr/>
          <p:nvPr/>
        </p:nvPicPr>
        <p:blipFill>
          <a:blip r:embed="rId1"/>
          <a:stretch/>
        </p:blipFill>
        <p:spPr>
          <a:xfrm>
            <a:off x="3236760" y="156672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48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49" name="Полилиния 7" descr=""/>
          <p:cNvPicPr/>
          <p:nvPr/>
        </p:nvPicPr>
        <p:blipFill>
          <a:blip r:embed="rId3"/>
          <a:stretch/>
        </p:blipFill>
        <p:spPr>
          <a:xfrm>
            <a:off x="3236760" y="2639880"/>
            <a:ext cx="5821560" cy="852480"/>
          </a:xfrm>
          <a:prstGeom prst="rect">
            <a:avLst/>
          </a:prstGeom>
          <a:ln w="0">
            <a:noFill/>
          </a:ln>
        </p:spPr>
      </p:pic>
      <p:pic>
        <p:nvPicPr>
          <p:cNvPr id="250" name="Полилиния 8" descr=""/>
          <p:cNvPicPr/>
          <p:nvPr/>
        </p:nvPicPr>
        <p:blipFill>
          <a:blip r:embed="rId4"/>
          <a:stretch/>
        </p:blipFill>
        <p:spPr>
          <a:xfrm>
            <a:off x="92160" y="224316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51" name="Полилиния 9" descr=""/>
          <p:cNvPicPr/>
          <p:nvPr/>
        </p:nvPicPr>
        <p:blipFill>
          <a:blip r:embed="rId5"/>
          <a:stretch/>
        </p:blipFill>
        <p:spPr>
          <a:xfrm>
            <a:off x="3236760" y="3706920"/>
            <a:ext cx="5846760" cy="858600"/>
          </a:xfrm>
          <a:prstGeom prst="rect">
            <a:avLst/>
          </a:prstGeom>
          <a:ln w="0">
            <a:noFill/>
          </a:ln>
        </p:spPr>
      </p:pic>
      <p:pic>
        <p:nvPicPr>
          <p:cNvPr id="252" name="Полилиния 10" descr=""/>
          <p:cNvPicPr/>
          <p:nvPr/>
        </p:nvPicPr>
        <p:blipFill>
          <a:blip r:embed="rId6"/>
          <a:stretch/>
        </p:blipFill>
        <p:spPr>
          <a:xfrm>
            <a:off x="92160" y="330984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Полилиния 11" descr=""/>
          <p:cNvPicPr/>
          <p:nvPr/>
        </p:nvPicPr>
        <p:blipFill>
          <a:blip r:embed="rId7"/>
          <a:stretch/>
        </p:blipFill>
        <p:spPr>
          <a:xfrm>
            <a:off x="3236760" y="477360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54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255" name="Полилиния 13" descr=""/>
          <p:cNvPicPr/>
          <p:nvPr/>
        </p:nvPicPr>
        <p:blipFill>
          <a:blip r:embed="rId9"/>
          <a:stretch/>
        </p:blipFill>
        <p:spPr>
          <a:xfrm>
            <a:off x="3236760" y="584676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56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0040"/>
            <a:ext cx="3247920" cy="1846080"/>
          </a:xfrm>
          <a:prstGeom prst="rect">
            <a:avLst/>
          </a:prstGeom>
          <a:ln w="0">
            <a:noFill/>
          </a:ln>
        </p:spPr>
      </p:pic>
      <p:pic>
        <p:nvPicPr>
          <p:cNvPr id="257" name="Заголовок 2" descr=""/>
          <p:cNvPicPr/>
          <p:nvPr/>
        </p:nvPicPr>
        <p:blipFill>
          <a:blip r:embed="rId11"/>
          <a:stretch/>
        </p:blipFill>
        <p:spPr>
          <a:xfrm>
            <a:off x="66600" y="66600"/>
            <a:ext cx="88282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152280" y="171360"/>
            <a:ext cx="8869320" cy="968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4211640" y="1322280"/>
            <a:ext cx="4687920" cy="3516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08000" y="1341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4913280" y="1413000"/>
            <a:ext cx="4211640" cy="4071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9280" y="1196640"/>
            <a:ext cx="5112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157400"/>
            <a:ext cx="50576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4716360" y="148428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6299280" y="2421000"/>
            <a:ext cx="2846160" cy="2728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5840" y="148428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2" descr=""/>
          <p:cNvPicPr/>
          <p:nvPr/>
        </p:nvPicPr>
        <p:blipFill>
          <a:blip r:embed="rId1"/>
          <a:stretch/>
        </p:blipFill>
        <p:spPr>
          <a:xfrm>
            <a:off x="139680" y="171360"/>
            <a:ext cx="9040680" cy="968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и аудио – видеокассе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7764480" cy="17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277" name="_s1028"/>
            <p:cNvCxnSpPr>
              <a:stCxn id="278" idx="0"/>
              <a:endCxn id="279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1029"/>
            <p:cNvCxnSpPr>
              <a:stCxn id="281" idx="0"/>
              <a:endCxn id="279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1030"/>
            <p:cNvCxnSpPr>
              <a:stCxn id="283" idx="0"/>
              <a:endCxn id="279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9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84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2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                       (сетевая технология)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2298240"/>
            <a:ext cx="91440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проводить обучение большого количества человек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оздать единую образовательную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реду (особенно актуально дл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корпоративного обучения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Использование технологий дистанционного обучения позволяет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2"/>
          <p:cNvSpPr/>
          <p:nvPr/>
        </p:nvSpPr>
        <p:spPr>
          <a:xfrm>
            <a:off x="250920" y="-30240"/>
            <a:ext cx="889308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91880" y="1760040"/>
            <a:ext cx="896436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Гибкость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Модульность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Экономическа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эффективность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 50% дешевле традиционных форм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разова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Admin</cp:lastModifiedBy>
  <dcterms:modified xsi:type="dcterms:W3CDTF">2022-06-22T15:09:07Z</dcterms:modified>
  <cp:revision>80</cp:revision>
  <dc:subject/>
  <dc:title>Дистанционное обучение</dc:title>
</cp:coreProperties>
</file>