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FA1C-B325-4D63-9075-E37B7D9CB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2F0-1666-43EA-8967-D6B9E61D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4F6-4BFB-4AFF-8FBE-01771892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C56-62AA-462C-9C62-DCE38C52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225-4317-4E3A-B899-53CE9FFA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ECE-2CCB-443F-BB59-265F8E34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027-1272-4089-B9E1-B55B080D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5A5-9BC0-4C8E-ACEA-DABAADE6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CDE-BBAE-4737-B419-9B50A23F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4C8C-4768-423F-BDF4-37533607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35A-0D16-452B-A6A1-69E9861C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EFF-D818-4952-AA9A-3DD8F9D9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876-0271-4A1E-BABC-4DB05CAE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4A63-3B5C-4385-9E1A-CFACF42BB27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232000"/>
          </a:xfrm>
          <a:prstGeom prst="rect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37280" y="4365360"/>
            <a:ext cx="390672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ила студентка 1 курса КЭ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Санакоева Ди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ая роль преподавате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средств обуч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е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астники процесса 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зчики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 координ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ьют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олилиния 5" descr=""/>
          <p:cNvPicPr/>
          <p:nvPr/>
        </p:nvPicPr>
        <p:blipFill>
          <a:blip r:embed="rId1"/>
          <a:stretch/>
        </p:blipFill>
        <p:spPr>
          <a:xfrm>
            <a:off x="3230640" y="156672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77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78" name="Полилиния 7" descr=""/>
          <p:cNvPicPr/>
          <p:nvPr/>
        </p:nvPicPr>
        <p:blipFill>
          <a:blip r:embed="rId3"/>
          <a:stretch/>
        </p:blipFill>
        <p:spPr>
          <a:xfrm>
            <a:off x="3230640" y="2639880"/>
            <a:ext cx="582768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Полилиния 8" descr=""/>
          <p:cNvPicPr/>
          <p:nvPr/>
        </p:nvPicPr>
        <p:blipFill>
          <a:blip r:embed="rId4"/>
          <a:stretch/>
        </p:blipFill>
        <p:spPr>
          <a:xfrm>
            <a:off x="92160" y="224964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0" name="Полилиния 9" descr=""/>
          <p:cNvPicPr/>
          <p:nvPr/>
        </p:nvPicPr>
        <p:blipFill>
          <a:blip r:embed="rId5"/>
          <a:stretch/>
        </p:blipFill>
        <p:spPr>
          <a:xfrm>
            <a:off x="3230640" y="3706920"/>
            <a:ext cx="5827680" cy="858600"/>
          </a:xfrm>
          <a:prstGeom prst="rect">
            <a:avLst/>
          </a:prstGeom>
          <a:ln w="0">
            <a:noFill/>
          </a:ln>
        </p:spPr>
      </p:pic>
      <p:pic>
        <p:nvPicPr>
          <p:cNvPr id="81" name="Полилиния 10" descr=""/>
          <p:cNvPicPr/>
          <p:nvPr/>
        </p:nvPicPr>
        <p:blipFill>
          <a:blip r:embed="rId6"/>
          <a:stretch/>
        </p:blipFill>
        <p:spPr>
          <a:xfrm>
            <a:off x="92160" y="331632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2" name="Полилиния 11" descr=""/>
          <p:cNvPicPr/>
          <p:nvPr/>
        </p:nvPicPr>
        <p:blipFill>
          <a:blip r:embed="rId7"/>
          <a:stretch/>
        </p:blipFill>
        <p:spPr>
          <a:xfrm>
            <a:off x="3230640" y="477360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84" name="Полилиния 13" descr=""/>
          <p:cNvPicPr/>
          <p:nvPr/>
        </p:nvPicPr>
        <p:blipFill>
          <a:blip r:embed="rId9"/>
          <a:stretch/>
        </p:blipFill>
        <p:spPr>
          <a:xfrm>
            <a:off x="3230640" y="584676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6160"/>
            <a:ext cx="3247920" cy="183996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2" descr=""/>
          <p:cNvPicPr/>
          <p:nvPr/>
        </p:nvPicPr>
        <p:blipFill>
          <a:blip r:embed="rId11"/>
          <a:stretch/>
        </p:blipFill>
        <p:spPr>
          <a:xfrm>
            <a:off x="92160" y="152280"/>
            <a:ext cx="89550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334800" y="21924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65600" y="1125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20520" y="1782720"/>
            <a:ext cx="4687920" cy="35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2000" y="1125360"/>
            <a:ext cx="511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40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086360" y="1268280"/>
            <a:ext cx="5057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0" y="162864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890800" y="112536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44280" y="2133720"/>
            <a:ext cx="284652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237960" y="219240"/>
            <a:ext cx="8856720" cy="107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аудио – видеокасс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3040" y="105228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(сетевая технология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спользование технологий дистанционного обучения позволя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57400"/>
            <a:ext cx="91440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роводить обучение большого количества челов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здать единую образователь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реду (особенно актуально д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орпоративного обуч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http://eurasia.by/upload/dist.jpg"/>
          <p:cNvPicPr/>
          <p:nvPr/>
        </p:nvPicPr>
        <p:blipFill>
          <a:blip r:embed="rId1"/>
          <a:stretch/>
        </p:blipFill>
        <p:spPr>
          <a:xfrm>
            <a:off x="5580000" y="4149720"/>
            <a:ext cx="35686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08000" y="189000"/>
            <a:ext cx="88930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12500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ивност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50% дешевле традиционных 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ITS</cp:lastModifiedBy>
  <dcterms:modified xsi:type="dcterms:W3CDTF">2022-05-24T20:01:12Z</dcterms:modified>
  <cp:revision>78</cp:revision>
  <dc:subject/>
  <dc:title>Дистанционное обучение</dc:title>
</cp:coreProperties>
</file>