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FC1B-356D-41ED-932E-B7199198F3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компонентами технологий ДО, от которых зависит эффективность обучения,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ебного материала для различных средств доставки знаний, его организация и структурирование определяются дидактическими свойствами компонентов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должен управлять процессом учения и контролировать уровень полученных знаний, качество освоенных умений и приобретенных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 учебный материал должны быть встроены тесты для оперативного контроля и интерактивные тренинг - тесты для самоконтроля, выполнение которых направлено, прежде всего, на закрепление учебного материала. Инструментальные средства для подготовки учебного материала выбираются в зависимости от технологической основы и вида учебных занятий (лекция, активный семинар, лабораторный компьютерный тренинг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07C1-2F2E-4DDF-934B-BE10CB1A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11E9-C425-4601-82C5-61FC4F12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ECA-D6D9-4493-903F-D7A94000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121-25E0-420D-8A8A-C374CB22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694-E74A-4EF6-BAB5-73D9DA05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1B6-76BA-4218-8B71-55B5033E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C2F-7DAA-4307-81FB-4BC2143E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F32-94B7-4542-9CDD-831FFA1B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B290-25CD-4742-B8AA-A1BE8039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9A23-9CC6-4F95-B19A-CEF67B33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CB5-843F-4E6F-B620-8F2D645E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28A-54A2-4C53-9A42-ED96F399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98E5-7B05-428C-8BD5-B94FFB5E6CC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2232000"/>
          </a:xfrm>
          <a:prstGeom prst="rect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ика и технология проведения лекций в режиме on-line для корпоративного обуч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37280" y="4365360"/>
            <a:ext cx="390672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ила студентка 1 курса КЭ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Санакоева Ди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60200" y="126792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вая роль преподавател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на него возлагаются такие функции, как координирование познавательного процесса, корректировка преподаваемого курса, консультирование, руководство учебными проектами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циализированный контроль качества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качестве форм контроля в дистанционном обучении используются дистанционно организованные экзамены, собеседования, практические, курсовые и проектные работы, экстернат, компьютерные интеллектуальные тестирующие систем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ование специализированных технолог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средств обучен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логия дистанционного обучения - это совокупность методов, форм и средств взаимодействия с человеком в процессе самостоятельного, но контролируемого освоения им определенного массива зна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8000" y="11592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станционное обучение (ДО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совокупность технологий, обеспечивающих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авку обучаемым основного объема изучаемого материал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активное взаимодействие  обучаемых и преподавателей в процессе обуче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ие обучаемым возможности самостоятельной работы по освоению изучаемого                                                                                               материала, а такж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е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частники процесса 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052280"/>
            <a:ext cx="90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азчики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-консультанты и авторы 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зайнер курсов (специалист по разработке кур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ординаторы работы системы в це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 координ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ьютор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чески сложившаяся особая педагогическая 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ае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5" descr="Lectio1"/>
          <p:cNvPicPr/>
          <p:nvPr/>
        </p:nvPicPr>
        <p:blipFill>
          <a:blip r:embed="rId8"/>
          <a:stretch/>
        </p:blipFill>
        <p:spPr>
          <a:xfrm>
            <a:off x="1258920" y="4118040"/>
            <a:ext cx="7256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олилиния 5" descr=""/>
          <p:cNvPicPr/>
          <p:nvPr/>
        </p:nvPicPr>
        <p:blipFill>
          <a:blip r:embed="rId1"/>
          <a:stretch/>
        </p:blipFill>
        <p:spPr>
          <a:xfrm>
            <a:off x="3230640" y="156672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77" name="Полилиния 6" descr=""/>
          <p:cNvPicPr/>
          <p:nvPr/>
        </p:nvPicPr>
        <p:blipFill>
          <a:blip r:embed="rId2"/>
          <a:stretch/>
        </p:blipFill>
        <p:spPr>
          <a:xfrm>
            <a:off x="92160" y="117648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78" name="Полилиния 7" descr=""/>
          <p:cNvPicPr/>
          <p:nvPr/>
        </p:nvPicPr>
        <p:blipFill>
          <a:blip r:embed="rId3"/>
          <a:stretch/>
        </p:blipFill>
        <p:spPr>
          <a:xfrm>
            <a:off x="3230640" y="2639880"/>
            <a:ext cx="582768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Полилиния 8" descr=""/>
          <p:cNvPicPr/>
          <p:nvPr/>
        </p:nvPicPr>
        <p:blipFill>
          <a:blip r:embed="rId4"/>
          <a:stretch/>
        </p:blipFill>
        <p:spPr>
          <a:xfrm>
            <a:off x="92160" y="224964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0" name="Полилиния 9" descr=""/>
          <p:cNvPicPr/>
          <p:nvPr/>
        </p:nvPicPr>
        <p:blipFill>
          <a:blip r:embed="rId5"/>
          <a:stretch/>
        </p:blipFill>
        <p:spPr>
          <a:xfrm>
            <a:off x="3230640" y="3706920"/>
            <a:ext cx="5827680" cy="858600"/>
          </a:xfrm>
          <a:prstGeom prst="rect">
            <a:avLst/>
          </a:prstGeom>
          <a:ln w="0">
            <a:noFill/>
          </a:ln>
        </p:spPr>
      </p:pic>
      <p:pic>
        <p:nvPicPr>
          <p:cNvPr id="81" name="Полилиния 10" descr=""/>
          <p:cNvPicPr/>
          <p:nvPr/>
        </p:nvPicPr>
        <p:blipFill>
          <a:blip r:embed="rId6"/>
          <a:stretch/>
        </p:blipFill>
        <p:spPr>
          <a:xfrm>
            <a:off x="92160" y="331632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2" name="Полилиния 11" descr=""/>
          <p:cNvPicPr/>
          <p:nvPr/>
        </p:nvPicPr>
        <p:blipFill>
          <a:blip r:embed="rId7"/>
          <a:stretch/>
        </p:blipFill>
        <p:spPr>
          <a:xfrm>
            <a:off x="3230640" y="477360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3" name="Полилиния 12" descr=""/>
          <p:cNvPicPr/>
          <p:nvPr/>
        </p:nvPicPr>
        <p:blipFill>
          <a:blip r:embed="rId8"/>
          <a:stretch/>
        </p:blipFill>
        <p:spPr>
          <a:xfrm>
            <a:off x="92160" y="4383000"/>
            <a:ext cx="3247920" cy="1846440"/>
          </a:xfrm>
          <a:prstGeom prst="rect">
            <a:avLst/>
          </a:prstGeom>
          <a:ln w="0">
            <a:noFill/>
          </a:ln>
        </p:spPr>
      </p:pic>
      <p:pic>
        <p:nvPicPr>
          <p:cNvPr id="84" name="Полилиния 13" descr=""/>
          <p:cNvPicPr/>
          <p:nvPr/>
        </p:nvPicPr>
        <p:blipFill>
          <a:blip r:embed="rId9"/>
          <a:stretch/>
        </p:blipFill>
        <p:spPr>
          <a:xfrm>
            <a:off x="3230640" y="584676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Полилиния 14" descr=""/>
          <p:cNvPicPr/>
          <p:nvPr/>
        </p:nvPicPr>
        <p:blipFill>
          <a:blip r:embed="rId10"/>
          <a:stretch/>
        </p:blipFill>
        <p:spPr>
          <a:xfrm>
            <a:off x="92160" y="5456160"/>
            <a:ext cx="3247920" cy="183996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2" descr=""/>
          <p:cNvPicPr/>
          <p:nvPr/>
        </p:nvPicPr>
        <p:blipFill>
          <a:blip r:embed="rId11"/>
          <a:stretch/>
        </p:blipFill>
        <p:spPr>
          <a:xfrm>
            <a:off x="92160" y="152280"/>
            <a:ext cx="895500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1"/>
          <a:stretch/>
        </p:blipFill>
        <p:spPr>
          <a:xfrm>
            <a:off x="334800" y="219240"/>
            <a:ext cx="8686800" cy="107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65200" y="1341360"/>
            <a:ext cx="822960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руктуризация курса должна обеспечивать возможность вовлечения обучаемых в самостоятельную познавательную деятельность, т.е. осуществление процесса учения, а не препода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677880" y="3357720"/>
            <a:ext cx="7993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с должен быть структурирован не только по темам, но и по уровням сложности, с учетом различной степени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rcRect l="0" t="18570" r="0" b="58253"/>
          <a:stretch/>
        </p:blipFill>
        <p:spPr>
          <a:xfrm>
            <a:off x="1001880" y="5013360"/>
            <a:ext cx="7345080" cy="1165320"/>
          </a:xfrm>
          <a:prstGeom prst="rect">
            <a:avLst/>
          </a:prstGeom>
          <a:ln w="38160">
            <a:solidFill>
              <a:srgbClr val="2baea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65600" y="1125360"/>
            <a:ext cx="4470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</a:rPr>
              <a:t>CASE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учебные пособия, методические указания, пакеты проверочных заданий и контрольных работ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чатные издания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http://900igr.net/datas/pedagogika/Kejs-tekhnologija/0005-005-Metody-kejs-tekhnologii.jpg"/>
          <p:cNvPicPr/>
          <p:nvPr/>
        </p:nvPicPr>
        <p:blipFill>
          <a:blip r:embed="rId1"/>
          <a:stretch/>
        </p:blipFill>
        <p:spPr>
          <a:xfrm>
            <a:off x="20520" y="1782720"/>
            <a:ext cx="4687920" cy="35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3452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2000" y="1125360"/>
            <a:ext cx="511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Телевизионны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чтение лекций и проведение занятий в прямом эфире, демонстрация видеозаписей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ионный сигнал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подключение к образовательным телевизионным сетям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http://shkolazhizni.ru/img/content/i112/112373_or.jpg"/>
          <p:cNvPicPr/>
          <p:nvPr/>
        </p:nvPicPr>
        <p:blipFill>
          <a:blip r:embed="rId1"/>
          <a:stretch/>
        </p:blipFill>
        <p:spPr>
          <a:xfrm>
            <a:off x="0" y="1484280"/>
            <a:ext cx="4211640" cy="40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086360" y="1268280"/>
            <a:ext cx="5057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Verdana"/>
              </a:rPr>
              <a:t>Multimedia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электронные учебники, обучающие программы, программы для тестирования, аудио- и видеозаписи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аудио- и видеокассеты, дискеты и компакт-диски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рсональный мультимедийный компьюте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go3.imgsmail.ru/imgpreview?key=7cb5278582f8ee56&amp;mb=imgdb_preview_655"/>
          <p:cNvPicPr/>
          <p:nvPr/>
        </p:nvPicPr>
        <p:blipFill>
          <a:blip r:embed="rId1"/>
          <a:stretch/>
        </p:blipFill>
        <p:spPr>
          <a:xfrm>
            <a:off x="0" y="1628640"/>
            <a:ext cx="4427640" cy="41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890800" y="1125360"/>
            <a:ext cx="62737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Verdana"/>
              </a:rPr>
              <a:t>Internet-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уроки и лекции в виде презентаций, виртуальные учебники, энциклопедии, справочники, виртуальные экскурсии и путешествия, виртуальная лаборатории, обучающие программы, тренажеры, игры, виртуальные семинары (теле- или видеоконференции), системы тестирования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службы и протоколы Internet (www, e-mail, ftp и другие)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одключение к сети Internet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ерсональный компьютер, подключенный к сети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Позволяют организовать большую степень интерактив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http://1.bp.blogspot.com/-gQfyw3k9vGk/TwB7N1pMQ5I/AAAAAAAAAVU/2YXRoCxEghU/s1600/internet-explorer.jpg"/>
          <p:cNvPicPr/>
          <p:nvPr/>
        </p:nvPicPr>
        <p:blipFill>
          <a:blip r:embed="rId1"/>
          <a:srcRect l="17550" t="3780" r="18198" b="3808"/>
          <a:stretch/>
        </p:blipFill>
        <p:spPr>
          <a:xfrm>
            <a:off x="44280" y="2133720"/>
            <a:ext cx="2846520" cy="27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2" descr=""/>
          <p:cNvPicPr/>
          <p:nvPr/>
        </p:nvPicPr>
        <p:blipFill>
          <a:blip r:embed="rId1"/>
          <a:stretch/>
        </p:blipFill>
        <p:spPr>
          <a:xfrm>
            <a:off x="237960" y="219240"/>
            <a:ext cx="8856720" cy="1073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360" y="2060280"/>
            <a:ext cx="8229600" cy="373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е время существует множество различных средств доставки учебного материала: почта, телефон, факс, Internet, электронная почта, телеконференция, электронная доска, спутниковые образовательные системы, интерактивное телевидение, радио, а такж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аудио – видеокасс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3040" y="1052280"/>
            <a:ext cx="896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витие глобальной компьютерной сети Интернет открыло новые перспективы совершенствования мировой образовательн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Organization Chart 7"/>
          <p:cNvGrpSpPr/>
          <p:nvPr/>
        </p:nvGrpSpPr>
        <p:grpSpPr>
          <a:xfrm>
            <a:off x="196920" y="39600"/>
            <a:ext cx="8686080" cy="4494600"/>
            <a:chOff x="196920" y="39600"/>
            <a:chExt cx="8686080" cy="449460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6228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V="1">
              <a:off x="4539600" y="1849680"/>
              <a:ext cx="3240" cy="87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30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25826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1"/>
            <p:cNvSpPr/>
            <p:nvPr/>
          </p:nvSpPr>
          <p:spPr>
            <a:xfrm>
              <a:off x="3237120" y="3960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истанционног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2"/>
            <p:cNvSpPr/>
            <p:nvPr/>
          </p:nvSpPr>
          <p:spPr>
            <a:xfrm>
              <a:off x="1969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ейс-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32371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евизионно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утников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62773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нет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сетева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9" descr="83605057a"/>
          <p:cNvPicPr/>
          <p:nvPr/>
        </p:nvPicPr>
        <p:blipFill>
          <a:blip r:embed="rId1"/>
          <a:stretch/>
        </p:blipFill>
        <p:spPr>
          <a:xfrm>
            <a:off x="347760" y="4575240"/>
            <a:ext cx="2495520" cy="2282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video_conferencing"/>
          <p:cNvPicPr/>
          <p:nvPr/>
        </p:nvPicPr>
        <p:blipFill>
          <a:blip r:embed="rId2"/>
          <a:stretch/>
        </p:blipFill>
        <p:spPr>
          <a:xfrm>
            <a:off x="3220920" y="4646520"/>
            <a:ext cx="2638440" cy="203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77ee73d418487ab572c55a6de3a57924"/>
          <p:cNvPicPr/>
          <p:nvPr/>
        </p:nvPicPr>
        <p:blipFill>
          <a:blip r:embed="rId3"/>
          <a:stretch/>
        </p:blipFill>
        <p:spPr>
          <a:xfrm>
            <a:off x="6373800" y="4646520"/>
            <a:ext cx="2705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23616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йся получает необходимые материалы для курса. Связь поддерживается компьютером. Преподаватель-консультант ведет обучение с помощью телефона, почты и иных средств связ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828800" y="260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ейс-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83605057a"/>
          <p:cNvPicPr/>
          <p:nvPr/>
        </p:nvPicPr>
        <p:blipFill>
          <a:blip r:embed="rId1"/>
          <a:stretch/>
        </p:blipFill>
        <p:spPr>
          <a:xfrm>
            <a:off x="1828800" y="2725560"/>
            <a:ext cx="58323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Телевизионно-спутниковая техн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125000"/>
            <a:ext cx="9036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ана на применении интерактивного телевидения: теле- и радиолекции, видеоконференции, виртуальные практические занятия и т.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video_conferencing"/>
          <p:cNvPicPr/>
          <p:nvPr/>
        </p:nvPicPr>
        <p:blipFill>
          <a:blip r:embed="rId1"/>
          <a:stretch/>
        </p:blipFill>
        <p:spPr>
          <a:xfrm>
            <a:off x="1979640" y="2565360"/>
            <a:ext cx="5472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 </a:t>
            </a: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Интернет-обучение </a:t>
            </a:r>
            <a:br>
              <a:rPr sz="2900"/>
            </a:b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(сетевая технология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320" y="105264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аемый получает весь необходимый материал и связь с преподавателем (инструктором) также через сеть Интер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77ee73d418487ab572c55a6de3a57924"/>
          <p:cNvPicPr/>
          <p:nvPr/>
        </p:nvPicPr>
        <p:blipFill>
          <a:blip r:embed="rId1"/>
          <a:stretch/>
        </p:blipFill>
        <p:spPr>
          <a:xfrm>
            <a:off x="1547640" y="2708280"/>
            <a:ext cx="65836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Использование технологий дистанционного обучения позволя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57400"/>
            <a:ext cx="91440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низить затраты на проведение обучения (не требуется затрат на аренду помещений, поездок к месту учебы, как учащихся, так и преподавателей и т. п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роводить обучение большого количества челове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высить качество обучения за счет применения современных средств, объемных электронных библиотек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оздать единую образователь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реду (особенно актуально д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корпоративного обуче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http://eurasia.by/upload/dist.jpg"/>
          <p:cNvPicPr/>
          <p:nvPr/>
        </p:nvPicPr>
        <p:blipFill>
          <a:blip r:embed="rId1"/>
          <a:stretch/>
        </p:blipFill>
        <p:spPr>
          <a:xfrm>
            <a:off x="5580000" y="4149720"/>
            <a:ext cx="35686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kalistin_1"/>
          <p:cNvPicPr/>
          <p:nvPr/>
        </p:nvPicPr>
        <p:blipFill>
          <a:blip r:embed="rId1"/>
          <a:stretch/>
        </p:blipFill>
        <p:spPr>
          <a:xfrm>
            <a:off x="6299280" y="389556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79280" y="0"/>
            <a:ext cx="88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важных результатов применения ИКТ в сфере образования является дистанционное обу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дистанционными образовательными технологиями понимаются «образовательные технологии, реализуемые в основном с применением информационных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ком-муникационн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осредованном (на расстояни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не полностью опосредован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и обучаю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едагогического рабо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96840" y="-14400"/>
            <a:ext cx="5122800" cy="67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явлению технологии дистанционного обучения способствовало развитие различных средств передачи информации на расстоянии. Основоположником данной педагогической технологии принято считать англичанина Исаака Питмана, который в 1840 году начал обучать студентов стенографии с помощью почтовых отправлений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1005373_5373_201"/>
          <p:cNvPicPr/>
          <p:nvPr/>
        </p:nvPicPr>
        <p:blipFill>
          <a:blip r:embed="rId1"/>
          <a:stretch/>
        </p:blipFill>
        <p:spPr>
          <a:xfrm>
            <a:off x="5219640" y="0"/>
            <a:ext cx="3913200" cy="4826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5667120" y="485136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аак Пит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4560840" y="54975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етатель одной из самых распространенных систем стенограф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4880" y="115920"/>
            <a:ext cx="53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50-х годах XIX века Густав Лангеншайдт опубликовал в Германии «обучающие письма» - самоучитель по освоению языка. В 1870-х программы дистанционного обучения стали создаваться в СШ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gustav_langenscheidt"/>
          <p:cNvPicPr/>
          <p:nvPr/>
        </p:nvPicPr>
        <p:blipFill>
          <a:blip r:embed="rId1"/>
          <a:stretch/>
        </p:blipFill>
        <p:spPr>
          <a:xfrm>
            <a:off x="5397480" y="0"/>
            <a:ext cx="3746520" cy="4668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411160" y="5008320"/>
            <a:ext cx="37191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ста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нгеншейд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4356000" y="5510160"/>
            <a:ext cx="50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 педагог-методист и изд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2 — 1895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155520"/>
            <a:ext cx="50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1917 года модель «консультацион-ного»(заочного) обучения была разработана в России. В 1969 году был открыт первый университет дистанционного обучения – Открытый Университет Великобритани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main?cmd=file&amp;object=1044&amp;width=315"/>
          <p:cNvPicPr/>
          <p:nvPr/>
        </p:nvPicPr>
        <p:blipFill>
          <a:blip r:embed="rId1"/>
          <a:stretch/>
        </p:blipFill>
        <p:spPr>
          <a:xfrm>
            <a:off x="5003640" y="260280"/>
            <a:ext cx="4156200" cy="3892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5719680" y="4685760"/>
            <a:ext cx="31687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332000" y="115920"/>
            <a:ext cx="48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(ДО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) — взаимодействие учителя и учащихся между собой на расстоянии, отражающее все присущие учебному процессу компоненты (цели, содержание, методы, организационные формы, средства обучения) и реализуемое специфичными средствами Интернет-технологий или другими средствами, предусматривающими интер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school84.centerstart.ru/userfiles/f_493b96e3dbec4.png"/>
          <p:cNvPicPr/>
          <p:nvPr/>
        </p:nvPicPr>
        <p:blipFill>
          <a:blip r:embed="rId1"/>
          <a:stretch/>
        </p:blipFill>
        <p:spPr>
          <a:xfrm>
            <a:off x="6012000" y="2281320"/>
            <a:ext cx="3238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108000" y="189000"/>
            <a:ext cx="88930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- процесс получения знаний, умений и навыков в системе дистанционно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—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это самостоятельная форма обучения, информационные технологии в дистанционном обучении являются ведущим сред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do.sibsutis.ru/images/688_1.jpg"/>
          <p:cNvPicPr/>
          <p:nvPr/>
        </p:nvPicPr>
        <p:blipFill>
          <a:blip r:embed="rId1"/>
          <a:stretch/>
        </p:blipFill>
        <p:spPr>
          <a:xfrm>
            <a:off x="2662200" y="2492280"/>
            <a:ext cx="4390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224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Характерные черты дистанционного образов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112500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обучаемые системы дистанционного образования (СДО), в основном не посещают регулярных занятий в виде лекций и семинаров, а работают в удобное для себя время в удобном месте и в удобном темп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у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основу программ дистанционного обучения кладется модульный принцип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ффективность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яя оценка мировых образовательных систем показыва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дистанционное обучение обходит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50% дешевле традиционных ф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51Z</dcterms:created>
  <dc:creator>sigma1</dc:creator>
  <dc:description/>
  <dc:language>en-US</dc:language>
  <cp:lastModifiedBy>ITS</cp:lastModifiedBy>
  <dcterms:modified xsi:type="dcterms:W3CDTF">2022-05-24T20:01:12Z</dcterms:modified>
  <cp:revision>78</cp:revision>
  <dc:subject/>
  <dc:title>Дистанционное обучение</dc:title>
</cp:coreProperties>
</file>